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28F-37AB-4A54-9392-BA49FFCF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FEC-A5E3-42DA-A4F8-CEAAF67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F15-88EE-4AC3-8CF4-92408B12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33A-0800-4AF7-A7F0-440E0F8C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514-34B3-4738-B1F6-430025E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DE2-4629-4F72-9BC3-949E972B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EBD-1AA6-41B6-8A44-D639A32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AFC-C34C-46A9-9AC5-12E7EB3F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104-7815-4596-BA5F-5730D85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883-EDD6-4BF3-8B31-BAF1C99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2A2-BC47-41BC-9D91-1B62BDD6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F69-A173-4119-8006-EFDD475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012-3A85-4EEF-B39C-35C85E628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9236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s, Ratios and Proportion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easures of Disease Frequen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Incidence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that develop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viewed as describing a pool of disease in a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s the input flow of new cases in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ality and recovery reflects the output flow from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ease-free su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1219320"/>
                <a:ext cx="2514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1981080" y="1295280"/>
            <a:ext cx="5029200" cy="336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5029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rief specified periods of time, e.g. an outbreak, commonly called an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1295280"/>
                <a:ext cx="22860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4267080"/>
                <a:ext cx="3352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size of the population for this same ti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66880" y="1600200"/>
                <a:ext cx="35816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t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number of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disease or health outcome to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ize of the source popu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≤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≤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% ≤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=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tal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disease–free individuals in the cohort are observed over the study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Synonym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24080" y="1219320"/>
                <a:ext cx="281952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295280"/>
                <a:ext cx="60962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20 new cases per 100 person-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57200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572000" cy="88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09680" y="5105520"/>
            <a:ext cx="4572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“Rate” is often been use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cor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scribe a measure of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.g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ttack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se-Fatality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Assumes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have disease at start of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die from other cause during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3581280"/>
                <a:ext cx="26668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657600"/>
                <a:ext cx="251460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D-ROM; Kleinba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 in Medicine, Hennek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nual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:  62 / 25,000  =  2.5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:  35 / 7,000 = 5.0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Number of stillbirths per thousand live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term that includes Rates and Propor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43200" y="434340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stillbir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live bir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267080" y="2438280"/>
                <a:ext cx="1143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foodborne epidemic occurred in an elementary school.  The attack rate in the first grade was 24% while the attack rate in the second grade was 16%.  Compare these two attack 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Ratio or Relativ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7280" y="3913200"/>
                <a:ext cx="14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2133720"/>
                <a:ext cx="12193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114800"/>
                <a:ext cx="4191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ve birth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fetal dea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00 people attended a company picnic and 50 became ill with acute enteric disease.  Calculate the proportion of ill per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362400" y="3581280"/>
                <a:ext cx="2646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4343400"/>
                <a:ext cx="624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new cases of Parkinson's dise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time disease-free subjects observ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52680" y="2286000"/>
                <a:ext cx="1143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Nancy Barker</dc:creator>
  <dc:description/>
  <dc:language>en-US</dc:language>
  <cp:lastModifiedBy>Nancy Barker</cp:lastModifiedBy>
  <dcterms:modified xsi:type="dcterms:W3CDTF">2004-09-22T15:48:14Z</dcterms:modified>
  <cp:revision>172</cp:revision>
  <dc:subject/>
  <dc:title>Slide 1</dc:title>
</cp:coreProperties>
</file>